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26C-87F9-4A91-9E7A-D8F5C36F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F93-0F4D-4659-8927-9FF5824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106-678A-4FC3-BBAE-7B8FB77B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EFE-1615-4512-ABF1-9A56271A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C32-F12C-4FEB-9D2C-44F2FF5A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F5F-6177-4366-A474-FC548F3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D72-16A4-45CC-86B2-29869E7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ECF6-52F1-461E-BE20-1D127B43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33B-71F7-41F1-B4A2-487D32F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4226-AC4F-48BC-BFBB-862DCA4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43C-E861-4B05-BF7E-6FB1B13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2CD-F2B7-4AD9-87BF-0AAC3F4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01A-E60F-43F0-A311-738CE30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7843-7902-43DF-AA8C-3C0DDC37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28E1-BCDC-4B30-B803-58D0429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BA1F-6E88-4EA3-AC91-5E9AEBC6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BC65-F873-438C-84A3-608977A2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65D-3259-447B-9DCD-20B34F4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6BB-76E9-4CE9-BF59-CBBFFBF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FC1-1D03-40EC-9E6D-CD6B9115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D82-5344-456F-A1DF-CF71D68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A9B-62AA-4569-B593-05BA9BCC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3B8-7EE9-42B9-A139-FAA5554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4C4-2DBC-4B8C-819E-0C237E1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C12-4EBD-43FB-AE4C-A80D48F0E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B28-F87B-4984-93C3-EB55A5689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 rot="21226200">
            <a:off x="928440" y="2078640"/>
            <a:ext cx="72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УДЕ арһ-зү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хальмг келнә болн литературин кичәлмүдт олзл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000680" y="5360760"/>
            <a:ext cx="485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йтан Нина Лиджи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ст балһсна 23 дундын школ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льмг келнә болн литературин багш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4048200" y="287352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3571920" y="2571840"/>
            <a:ext cx="1928880" cy="12859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Дөрвн з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үс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герин 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5975280" y="407340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" descr="вербл и верблюжонок"/>
          <p:cNvPicPr/>
          <p:nvPr/>
        </p:nvPicPr>
        <p:blipFill>
          <a:blip r:embed="rId1"/>
          <a:stretch/>
        </p:blipFill>
        <p:spPr>
          <a:xfrm>
            <a:off x="5572080" y="4214880"/>
            <a:ext cx="162072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лошади"/>
          <p:cNvPicPr/>
          <p:nvPr/>
        </p:nvPicPr>
        <p:blipFill>
          <a:blip r:embed="rId2"/>
          <a:srcRect l="2787" t="3709" r="19443" b="11104"/>
          <a:stretch/>
        </p:blipFill>
        <p:spPr>
          <a:xfrm>
            <a:off x="1857240" y="357120"/>
            <a:ext cx="2143440" cy="17607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1931400" y="3571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ө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6288840" y="4143240"/>
            <a:ext cx="8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4716360" y="40006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от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2359800" y="242892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42920" y="357120"/>
            <a:ext cx="254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 кө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рд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әә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лг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5429160" y="21420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7334280" y="428760"/>
            <a:ext cx="18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өврт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үс, м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с өгнә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7291080" y="428616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өн но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 би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 flipH="1" flipV="1">
            <a:off x="999720" y="785520"/>
            <a:ext cx="114300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1"/>
          <p:cNvSpPr/>
          <p:nvPr/>
        </p:nvSpPr>
        <p:spPr>
          <a:xfrm flipH="1">
            <a:off x="928440" y="1357200"/>
            <a:ext cx="12142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2"/>
          <p:cNvSpPr/>
          <p:nvPr/>
        </p:nvSpPr>
        <p:spPr>
          <a:xfrm flipH="1">
            <a:off x="928440" y="1714680"/>
            <a:ext cx="12207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3"/>
          <p:cNvSpPr/>
          <p:nvPr/>
        </p:nvSpPr>
        <p:spPr>
          <a:xfrm flipH="1">
            <a:off x="2785680" y="1357200"/>
            <a:ext cx="716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7"/>
          <p:cNvSpPr/>
          <p:nvPr/>
        </p:nvSpPr>
        <p:spPr>
          <a:xfrm flipV="1">
            <a:off x="6715080" y="4500720"/>
            <a:ext cx="642960" cy="28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"/>
          <p:cNvSpPr/>
          <p:nvPr/>
        </p:nvSpPr>
        <p:spPr>
          <a:xfrm>
            <a:off x="6786720" y="5143680"/>
            <a:ext cx="91116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9"/>
          <p:cNvSpPr/>
          <p:nvPr/>
        </p:nvSpPr>
        <p:spPr>
          <a:xfrm>
            <a:off x="6858000" y="5429160"/>
            <a:ext cx="6429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0"/>
          <p:cNvSpPr/>
          <p:nvPr/>
        </p:nvSpPr>
        <p:spPr>
          <a:xfrm flipH="1" flipV="1">
            <a:off x="5285880" y="4285800"/>
            <a:ext cx="107172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2" descr="х"/>
          <p:cNvPicPr/>
          <p:nvPr/>
        </p:nvPicPr>
        <p:blipFill>
          <a:blip r:embed="rId3"/>
          <a:srcRect l="9273" t="0" r="24685" b="46978"/>
          <a:stretch/>
        </p:blipFill>
        <p:spPr>
          <a:xfrm>
            <a:off x="4714920" y="428760"/>
            <a:ext cx="2450880" cy="1633320"/>
          </a:xfrm>
          <a:prstGeom prst="rect">
            <a:avLst/>
          </a:prstGeom>
          <a:ln w="0">
            <a:noFill/>
          </a:ln>
        </p:spPr>
      </p:pic>
      <p:sp>
        <p:nvSpPr>
          <p:cNvPr id="292" name="Line 34"/>
          <p:cNvSpPr/>
          <p:nvPr/>
        </p:nvSpPr>
        <p:spPr>
          <a:xfrm>
            <a:off x="6643800" y="500040"/>
            <a:ext cx="7142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5859360" y="2142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ү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>
            <a:off x="6500880" y="1500120"/>
            <a:ext cx="712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6"/>
          <p:cNvSpPr/>
          <p:nvPr/>
        </p:nvSpPr>
        <p:spPr>
          <a:xfrm>
            <a:off x="6858000" y="785880"/>
            <a:ext cx="50004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4" descr="х.к._0002"/>
          <p:cNvPicPr/>
          <p:nvPr/>
        </p:nvPicPr>
        <p:blipFill>
          <a:blip r:embed="rId4"/>
          <a:srcRect l="9092" t="109" r="30035" b="47485"/>
          <a:stretch/>
        </p:blipFill>
        <p:spPr>
          <a:xfrm>
            <a:off x="1714680" y="4429080"/>
            <a:ext cx="2543040" cy="1552680"/>
          </a:xfrm>
          <a:prstGeom prst="rect">
            <a:avLst/>
          </a:prstGeom>
          <a:ln w="0">
            <a:noFill/>
          </a:ln>
        </p:spPr>
      </p:pic>
      <p:sp>
        <p:nvSpPr>
          <p:cNvPr id="298" name="Line 28"/>
          <p:cNvSpPr/>
          <p:nvPr/>
        </p:nvSpPr>
        <p:spPr>
          <a:xfrm flipV="1">
            <a:off x="3714840" y="4357800"/>
            <a:ext cx="7128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 flipV="1">
            <a:off x="1356840" y="4571640"/>
            <a:ext cx="4287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57240" y="4286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ө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5"/>
          <p:cNvSpPr/>
          <p:nvPr/>
        </p:nvSpPr>
        <p:spPr>
          <a:xfrm>
            <a:off x="6220080" y="2357280"/>
            <a:ext cx="7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6"/>
          <p:cNvSpPr/>
          <p:nvPr/>
        </p:nvSpPr>
        <p:spPr>
          <a:xfrm>
            <a:off x="7505280" y="58579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үкр гест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7"/>
          <p:cNvSpPr/>
          <p:nvPr/>
        </p:nvSpPr>
        <p:spPr>
          <a:xfrm>
            <a:off x="3433320" y="4000680"/>
            <a:ext cx="7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хур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36"/>
          <p:cNvCxnSpPr>
            <a:endCxn id="305" idx="3"/>
          </p:cNvCxnSpPr>
          <p:nvPr/>
        </p:nvCxnSpPr>
        <p:spPr>
          <a:xfrm flipH="1">
            <a:off x="1196280" y="5428080"/>
            <a:ext cx="80388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TextBox 56"/>
          <p:cNvSpPr/>
          <p:nvPr/>
        </p:nvSpPr>
        <p:spPr>
          <a:xfrm>
            <a:off x="150120" y="414324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х, ноо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гн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7"/>
          <p:cNvSpPr/>
          <p:nvPr/>
        </p:nvSpPr>
        <p:spPr>
          <a:xfrm>
            <a:off x="216000" y="5357880"/>
            <a:ext cx="9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ь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хм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6"/>
          <p:cNvCxnSpPr/>
          <p:nvPr/>
        </p:nvCxnSpPr>
        <p:spPr>
          <a:xfrm flipH="1">
            <a:off x="2999520" y="3571920"/>
            <a:ext cx="7326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AutoShape 36"/>
          <p:cNvCxnSpPr>
            <a:stCxn id="270" idx="1"/>
          </p:cNvCxnSpPr>
          <p:nvPr/>
        </p:nvCxnSpPr>
        <p:spPr>
          <a:xfrm flipH="1" flipV="1">
            <a:off x="3214080" y="2142720"/>
            <a:ext cx="64044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6"/>
          <p:cNvCxnSpPr>
            <a:stCxn id="270" idx="7"/>
          </p:cNvCxnSpPr>
          <p:nvPr/>
        </p:nvCxnSpPr>
        <p:spPr>
          <a:xfrm flipV="1">
            <a:off x="5217120" y="2071440"/>
            <a:ext cx="64044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36"/>
          <p:cNvCxnSpPr/>
          <p:nvPr/>
        </p:nvCxnSpPr>
        <p:spPr>
          <a:xfrm>
            <a:off x="5357880" y="3571920"/>
            <a:ext cx="929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9"/>
          <p:cNvSpPr/>
          <p:nvPr/>
        </p:nvSpPr>
        <p:spPr>
          <a:xfrm flipH="1">
            <a:off x="2428920" y="1071720"/>
            <a:ext cx="17143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4357800" y="1071720"/>
            <a:ext cx="17143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6143760" y="3929040"/>
            <a:ext cx="71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 flipH="1">
            <a:off x="2286000" y="3714840"/>
            <a:ext cx="712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7212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2428920" y="2286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2428920" y="1643040"/>
            <a:ext cx="460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6072120" y="235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"/>
          <p:cNvSpPr/>
          <p:nvPr/>
        </p:nvSpPr>
        <p:spPr>
          <a:xfrm>
            <a:off x="2357280" y="5429160"/>
            <a:ext cx="9288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"/>
          <p:cNvSpPr/>
          <p:nvPr/>
        </p:nvSpPr>
        <p:spPr>
          <a:xfrm flipH="1">
            <a:off x="5143680" y="5286240"/>
            <a:ext cx="10713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2357280" y="21600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62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клә шорһлҗн хойр» - ту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2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65480" y="821160"/>
            <a:ext cx="5452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зәнә хойр нәәҗ бәә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лә                                                         шорһлҗ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1857240" y="-7704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26720" y="1819080"/>
            <a:ext cx="58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р-нааднд дурта бәәҗ                                      көдлмшин ард бәән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1071720" y="2040840"/>
            <a:ext cx="6483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рһлҗнд ирнә:                                              «Хөөткән санл уга, нәр-наад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әр-нааднд ора йовҗ, идх                                    ард орад бәәдв? Мадн сән нәә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влә хотан белдсн угав.                                        болҗ чадш угавидн. Болв чам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мур ирүв»                                                           өөлүлҗ бол шуга. Темәнә кө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»,- гиһәд, царцахан һуй өгн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1214280" y="3752640"/>
            <a:ext cx="65804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чкн өглһ өгчкәд, бийим наад бәрҗәнә                шорһлҗна гериг меклә бийә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һәд, шорһлҗиг алхар седәд, нүкнә                       хаасна учрар киитн орл уга дул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г бийәрн хааһад, бийнь һол күртлән                  бо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1714680" y="55735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шә көөһәд, ташаһан авна гидг э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0"/>
          <p:cNvSpPr/>
          <p:nvPr/>
        </p:nvSpPr>
        <p:spPr>
          <a:xfrm>
            <a:off x="1217520" y="50720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рәд соти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6553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атрмудын суул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зн богд Җаң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әк Зула хаани үлд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ңгс Бумб хаани ач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ң алдр хаани көвү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н өнчн Җа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билә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1763280" y="126828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97964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63600" y="1571760"/>
            <a:ext cx="2476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н Күңкә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н Чее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Иргсн 99 җилә юм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җҗ келд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әд уга 99 җилә юм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аҗ меддг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1285920" y="3143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04560" y="3429000"/>
            <a:ext cx="29926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нд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а С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81 ал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әв балтнь ээмәснь хө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г уг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у ямр чиирг болв ги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өрн деер кү то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г 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мни нач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5724360" y="1268280"/>
            <a:ext cx="1440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209640" y="1571760"/>
            <a:ext cx="26524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лңгин Ар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 Хоң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өвшүн Шир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ач гин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к Мөңгн Ширгш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көвүн гин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тә Зандн Герл хат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вү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728676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286680" y="3714840"/>
            <a:ext cx="2444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үзән Гүмбү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авлад суухлар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күүни зәәд сууд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к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 суухлар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күүни зәәд суудг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1500120" y="50720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1628640" y="5392800"/>
            <a:ext cx="1967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члңгин Сәәх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ңгъ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Эзн богд Җа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кн сән сөңг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к Тугин көвү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6858000" y="5072040"/>
            <a:ext cx="357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5376960" y="5516640"/>
            <a:ext cx="2134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шн Хар Сан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Буурл Һалзнарн ир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зн богдыг дахгс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289400" y="580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8" descr="Изображение 048"/>
          <p:cNvPicPr/>
          <p:nvPr/>
        </p:nvPicPr>
        <p:blipFill>
          <a:blip r:embed="rId1"/>
          <a:srcRect l="10577" t="7321" r="8329" b="9342"/>
          <a:stretch/>
        </p:blipFill>
        <p:spPr>
          <a:xfrm>
            <a:off x="4000680" y="521496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Изображение 046"/>
          <p:cNvPicPr/>
          <p:nvPr/>
        </p:nvPicPr>
        <p:blipFill>
          <a:blip r:embed="rId2"/>
          <a:srcRect l="11164" t="5301" r="5202" b="11382"/>
          <a:stretch/>
        </p:blipFill>
        <p:spPr>
          <a:xfrm>
            <a:off x="214200" y="642960"/>
            <a:ext cx="1071720" cy="150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0" descr="Изображение 049"/>
          <p:cNvPicPr/>
          <p:nvPr/>
        </p:nvPicPr>
        <p:blipFill>
          <a:blip r:embed="rId3"/>
          <a:srcRect l="13330" t="4667" r="6422" b="11446"/>
          <a:stretch/>
        </p:blipFill>
        <p:spPr>
          <a:xfrm>
            <a:off x="500040" y="5143680"/>
            <a:ext cx="1071720" cy="1571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1" descr="Изображение 050"/>
          <p:cNvPicPr/>
          <p:nvPr/>
        </p:nvPicPr>
        <p:blipFill>
          <a:blip r:embed="rId4"/>
          <a:srcRect l="11171" t="4321" r="8554" b="15594"/>
          <a:stretch/>
        </p:blipFill>
        <p:spPr>
          <a:xfrm>
            <a:off x="3929040" y="2286000"/>
            <a:ext cx="1357200" cy="1900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2" descr="Изображение 051"/>
          <p:cNvPicPr/>
          <p:nvPr/>
        </p:nvPicPr>
        <p:blipFill>
          <a:blip r:embed="rId5"/>
          <a:srcRect l="8876" t="3394" r="6034" b="13970"/>
          <a:stretch/>
        </p:blipFill>
        <p:spPr>
          <a:xfrm>
            <a:off x="7643880" y="52149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3" descr="Изображение 052"/>
          <p:cNvPicPr/>
          <p:nvPr/>
        </p:nvPicPr>
        <p:blipFill>
          <a:blip r:embed="rId6"/>
          <a:srcRect l="14301" t="5089" r="5343" b="11024"/>
          <a:stretch/>
        </p:blipFill>
        <p:spPr>
          <a:xfrm>
            <a:off x="7786800" y="642960"/>
            <a:ext cx="1071360" cy="15717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3" descr=""/>
          <p:cNvPicPr/>
          <p:nvPr/>
        </p:nvPicPr>
        <p:blipFill>
          <a:blip r:embed="rId7"/>
          <a:stretch/>
        </p:blipFill>
        <p:spPr>
          <a:xfrm>
            <a:off x="7827840" y="3011400"/>
            <a:ext cx="146232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99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өглтин Даван үүдәлтин хаал</a:t>
            </a:r>
            <a:r>
              <a:rPr b="1" i="1" lang="en-US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692280"/>
          <a:ext cx="7921440" cy="6018120"/>
        </p:xfrm>
        <a:graphic>
          <a:graphicData uri="http://schemas.openxmlformats.org/drawingml/2006/table">
            <a:tbl>
              <a:tblPr/>
              <a:tblGrid>
                <a:gridCol w="1657080"/>
                <a:gridCol w="3356280"/>
                <a:gridCol w="290808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р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ңһ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шүлгүд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мс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ни 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лгү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обит гидг 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үрм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-1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агин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сә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рһл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Алтн зүрк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ар Гер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Җи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л болн ухал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ү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әд барлсн 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лгү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хана буцл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Әмтин сәәхн апрел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ол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Һаз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-1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Һурвн ботьта үүдәврмү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-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«Үрг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 амс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, «Мини зальвр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Line 72"/>
          <p:cNvSpPr/>
          <p:nvPr/>
        </p:nvSpPr>
        <p:spPr>
          <a:xfrm>
            <a:off x="714240" y="714240"/>
            <a:ext cx="157176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480" y="642960"/>
            <a:ext cx="64609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глтин Даван шүлгүдин </a:t>
            </a:r>
            <a:r>
              <a:rPr b="1" i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лгч төрмүд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4"/>
          <p:cNvSpPr/>
          <p:nvPr/>
        </p:nvSpPr>
        <p:spPr>
          <a:xfrm flipH="1">
            <a:off x="1403280" y="126828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 flipH="1">
            <a:off x="3059280" y="1268280"/>
            <a:ext cx="1584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464328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4643280" y="1268280"/>
            <a:ext cx="172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4643280" y="1268280"/>
            <a:ext cx="3313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684360" y="2205000"/>
            <a:ext cx="14396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скн т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411280" y="2205000"/>
            <a:ext cx="13687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ь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үвр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4067280" y="2205000"/>
            <a:ext cx="14414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796000" y="2205000"/>
            <a:ext cx="129708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ск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сг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р д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7380360" y="2205000"/>
            <a:ext cx="129528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зр де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җ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вдлм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1403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3059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47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6516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8028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684360" y="3789360"/>
            <a:ext cx="1295280" cy="151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вр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вр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з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клд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2411280" y="3789360"/>
            <a:ext cx="1368720" cy="158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Җи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л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Әмд кү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тн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"/>
          <p:cNvSpPr/>
          <p:nvPr/>
        </p:nvSpPr>
        <p:spPr>
          <a:xfrm>
            <a:off x="4067280" y="3789360"/>
            <a:ext cx="1584360" cy="158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, Пушки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шхла!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ц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тлсн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796000" y="3789360"/>
            <a:ext cx="1440000" cy="1511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пд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с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әән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орсн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3"/>
          <p:cNvSpPr/>
          <p:nvPr/>
        </p:nvSpPr>
        <p:spPr>
          <a:xfrm>
            <a:off x="7380360" y="3789360"/>
            <a:ext cx="1295280" cy="1440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ск туул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цл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4"/>
          <p:cNvSpPr txBox="1"/>
          <p:nvPr/>
        </p:nvSpPr>
        <p:spPr>
          <a:xfrm>
            <a:off x="2143080" y="214200"/>
            <a:ext cx="489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Ухана буцлт»-поэ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1692360" y="692280"/>
            <a:ext cx="251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826920" y="1268280"/>
            <a:ext cx="15130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ң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 flipH="1">
            <a:off x="4067280" y="69228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3348000" y="1268280"/>
            <a:ext cx="15130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ол ух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5148360" y="69228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5508720" y="1268280"/>
            <a:ext cx="1439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вәрц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5796000" y="692280"/>
            <a:ext cx="2232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7308720" y="1341360"/>
            <a:ext cx="13464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рмү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 flipH="1">
            <a:off x="755280" y="220500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763640" y="2205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08000" y="2852640"/>
            <a:ext cx="1511280" cy="1368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н Ам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орнд болс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юл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с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1763640" y="2852640"/>
            <a:ext cx="1368360" cy="1368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өм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4067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3348000" y="2852640"/>
            <a:ext cx="172872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бол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 –нутг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орндан дә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җг уга, 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әәл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63007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5508720" y="2852640"/>
            <a:ext cx="1584360" cy="1368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ль олзл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ән кел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чгд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802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4"/>
          <p:cNvSpPr/>
          <p:nvPr/>
        </p:nvSpPr>
        <p:spPr>
          <a:xfrm>
            <a:off x="7380360" y="2852640"/>
            <a:ext cx="1584360" cy="1368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м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ин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 Таф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283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«Ухана буцлт» поэмин ахр харвл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85840" y="714240"/>
          <a:ext cx="8643960" cy="5969160"/>
        </p:xfrm>
        <a:graphic>
          <a:graphicData uri="http://schemas.openxmlformats.org/drawingml/2006/table">
            <a:tbl>
              <a:tblPr/>
              <a:tblGrid>
                <a:gridCol w="2073240"/>
                <a:gridCol w="3678120"/>
                <a:gridCol w="289260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ң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с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гч әң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ин өрк-бү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гч әң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өмр шовун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ск ту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үрмү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Үүлд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әәнә аш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шл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7" name="Line 32"/>
          <p:cNvSpPr/>
          <p:nvPr/>
        </p:nvSpPr>
        <p:spPr>
          <a:xfrm>
            <a:off x="285840" y="714240"/>
            <a:ext cx="207144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2340000" y="1700280"/>
            <a:ext cx="3672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Крейзи - өрк-бүлин эзн, нертә эм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олог, коммун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– Адамин көвү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ин – Адамин герг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фт – Катрина эцкнь,   гене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6161400" y="1773360"/>
            <a:ext cx="1765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йр ха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тын номта ул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2340000" y="3213000"/>
            <a:ext cx="3672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Крейзи Вьетнамд дәәнд орад үк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ик зовлңта бәә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Томасин дневник умш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ьд одад ад гемәр гемтн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6012000" y="3141720"/>
            <a:ext cx="295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йр хан дәәллдҗәһәд, нег-негән эс диилхләрн, нег хань цуг номта улсан дуудад, хортыг диилхәр  «төмр шову» бәр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ун күүнә цусар теҗәл ке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р дор бултад, күн болдган уур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2426040" y="501336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сн, үкл, олн зүсн г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гн-садасн хольҗлһ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161400" y="5229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өмр шовун» - атомн бом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2556000" y="5805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болн орн-нутгуд хоорндан дән-даҗг уга, ни бәәҗ җирһтхә гисн уха түүрвәч олнд медүлҗән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Text Box 4"/>
          <p:cNvGrpSpPr/>
          <p:nvPr/>
        </p:nvGrpSpPr>
        <p:grpSpPr>
          <a:xfrm>
            <a:off x="2316960" y="2066760"/>
            <a:ext cx="4286520" cy="1676520"/>
            <a:chOff x="2316960" y="2066760"/>
            <a:chExt cx="4286520" cy="1676520"/>
          </a:xfrm>
        </p:grpSpPr>
        <p:pic>
          <p:nvPicPr>
            <p:cNvPr id="406" name="Text Box 4" descr=""/>
            <p:cNvPicPr/>
            <p:nvPr/>
          </p:nvPicPr>
          <p:blipFill>
            <a:blip r:embed="rId1"/>
            <a:stretch/>
          </p:blipFill>
          <p:spPr>
            <a:xfrm>
              <a:off x="2468520" y="2066760"/>
              <a:ext cx="39816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316960" y="2181240"/>
              <a:ext cx="4286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Хаал</a:t>
              </a:r>
              <a:r>
                <a:rPr b="1" i="1" lang="en-US" sz="4400" spc="-1" strike="noStrike">
                  <a:solidFill>
                    <a:srgbClr val="c00000"/>
                  </a:solidFill>
                  <a:latin typeface="Californian FB"/>
                </a:rPr>
                <a:t>h</a:t>
              </a: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тн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ца</a:t>
              </a:r>
              <a:r>
                <a:rPr b="1" i="1" lang="en-US" sz="4400" spc="-1" strike="noStrike">
                  <a:solidFill>
                    <a:srgbClr val="c00000"/>
                  </a:solidFill>
                  <a:latin typeface="Californian FB"/>
                </a:rPr>
                <a:t>h</a:t>
              </a: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ан болтха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alifornian FB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Е арһ-зүүһин элементс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642960" y="1871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г цагла чинрәрн өөрхн әңгс дас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Шуд болн хәрүд даалһв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ртичн даалһ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алһвр зургар, таблицар, схемәр дамҗҗ тогта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Төр блокар дас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ичәлдән нег текстәр көдл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фформированн даалһвр күцә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000680" y="285840"/>
            <a:ext cx="914400" cy="5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4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ҮЗ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68360" y="1989000"/>
            <a:ext cx="1224000" cy="115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ө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,ө,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, и,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0" y="2000160"/>
            <a:ext cx="1201680" cy="11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о, 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, я, ё, 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332000" y="1268280"/>
            <a:ext cx="1419120" cy="505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гш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156360" y="1268280"/>
            <a:ext cx="1440000" cy="57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д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788000" y="1916280"/>
            <a:ext cx="1152360" cy="194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7524720" y="1989000"/>
            <a:ext cx="1150920" cy="18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л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6156360" y="2349360"/>
            <a:ext cx="1201680" cy="648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шадл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156360" y="3860640"/>
            <a:ext cx="1224000" cy="792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хошад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4788000" y="4005360"/>
            <a:ext cx="1152360" cy="151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524720" y="4005360"/>
            <a:ext cx="1150920" cy="151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971640" y="4437000"/>
            <a:ext cx="1993680" cy="15130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р         у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    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   с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ә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 flipH="1">
            <a:off x="2050560" y="836640"/>
            <a:ext cx="201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4859280" y="836640"/>
            <a:ext cx="2017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1116000" y="17002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2627280" y="1700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5363640" y="1628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759636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1042920" y="3141720"/>
            <a:ext cx="50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H="1">
            <a:off x="2268360" y="3141720"/>
            <a:ext cx="6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H="1">
            <a:off x="5940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738036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 flipH="1">
            <a:off x="594036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738036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4496" t="2992" r="4598" b="5953"/>
          <a:stretch/>
        </p:blipFill>
        <p:spPr>
          <a:xfrm>
            <a:off x="179280" y="125280"/>
            <a:ext cx="89312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571680" y="165960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Үлгүрн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Үгин тогтац» гидг төрәр иим даалһвр өгч болҗ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                                 мал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                                   герт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зәңг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матр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42960" y="357120"/>
            <a:ext cx="8072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фформированн даалһ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«метод заполнения пустых клето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195640" y="2565360"/>
            <a:ext cx="1357200" cy="42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6"/>
          <p:cNvCxnSpPr/>
          <p:nvPr/>
        </p:nvCxnSpPr>
        <p:spPr>
          <a:xfrm flipV="1">
            <a:off x="1499760" y="2785680"/>
            <a:ext cx="500760" cy="151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cxnSp>
        <p:nvCxnSpPr>
          <p:cNvPr id="116" name="Прямая со стрелкой 9"/>
          <p:cNvCxnSpPr/>
          <p:nvPr/>
        </p:nvCxnSpPr>
        <p:spPr>
          <a:xfrm>
            <a:off x="3714480" y="2857680"/>
            <a:ext cx="415080" cy="216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sp>
        <p:nvSpPr>
          <p:cNvPr id="117" name="Прямоугольник 11"/>
          <p:cNvSpPr/>
          <p:nvPr/>
        </p:nvSpPr>
        <p:spPr>
          <a:xfrm>
            <a:off x="2195640" y="3429000"/>
            <a:ext cx="135720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3"/>
          <p:cNvCxnSpPr/>
          <p:nvPr/>
        </p:nvCxnSpPr>
        <p:spPr>
          <a:xfrm>
            <a:off x="1499760" y="3642840"/>
            <a:ext cx="500760" cy="25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>
            <a:off x="3714840" y="3642840"/>
            <a:ext cx="357840" cy="25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rcRect l="3551" t="997" r="2417" b="0"/>
          <a:stretch/>
        </p:blipFill>
        <p:spPr>
          <a:xfrm>
            <a:off x="141120" y="189000"/>
            <a:ext cx="8920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әәлһнә нернә үг-зүүһин  йилһл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357720" y="857160"/>
            <a:ext cx="2016000" cy="5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Бәәлһн н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356000" y="134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971640" y="162864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39280" y="1628640"/>
            <a:ext cx="4302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971640" y="16286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987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35600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651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7164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8459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08000" y="2060640"/>
            <a:ext cx="9144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и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3000" y="2071800"/>
            <a:ext cx="9144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2340000" y="2060640"/>
            <a:ext cx="136836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скл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3924360" y="2060640"/>
            <a:ext cx="9144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иск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214960" y="2071800"/>
            <a:ext cx="91440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516720" y="2060640"/>
            <a:ext cx="113040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ск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7786800" y="2071800"/>
            <a:ext cx="105876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әңгд ю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539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1547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24109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987640" y="2997360"/>
            <a:ext cx="4608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108000" y="3284640"/>
            <a:ext cx="91440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320364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H="1">
            <a:off x="5076720" y="2997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72436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680400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7000920" y="3000240"/>
            <a:ext cx="45072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7236000" y="2997360"/>
            <a:ext cx="9079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1116000" y="3284640"/>
            <a:ext cx="91440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җ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7"/>
          <p:cNvSpPr/>
          <p:nvPr/>
        </p:nvSpPr>
        <p:spPr>
          <a:xfrm>
            <a:off x="2214720" y="3357720"/>
            <a:ext cx="376200" cy="285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8"/>
          <p:cNvSpPr/>
          <p:nvPr/>
        </p:nvSpPr>
        <p:spPr>
          <a:xfrm>
            <a:off x="2786040" y="3714840"/>
            <a:ext cx="442800" cy="35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9"/>
          <p:cNvSpPr/>
          <p:nvPr/>
        </p:nvSpPr>
        <p:spPr>
          <a:xfrm>
            <a:off x="3357720" y="3357720"/>
            <a:ext cx="439560" cy="285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4643280" y="3357720"/>
            <a:ext cx="787680" cy="785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д.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5572080" y="3357720"/>
            <a:ext cx="779400" cy="785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н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.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2"/>
          <p:cNvSpPr/>
          <p:nvPr/>
        </p:nvSpPr>
        <p:spPr>
          <a:xfrm>
            <a:off x="6516720" y="3500280"/>
            <a:ext cx="55548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3"/>
          <p:cNvSpPr/>
          <p:nvPr/>
        </p:nvSpPr>
        <p:spPr>
          <a:xfrm>
            <a:off x="7236000" y="3500280"/>
            <a:ext cx="47916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вр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4"/>
          <p:cNvSpPr/>
          <p:nvPr/>
        </p:nvSpPr>
        <p:spPr>
          <a:xfrm>
            <a:off x="7929720" y="3500280"/>
            <a:ext cx="50004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5"/>
          <p:cNvSpPr/>
          <p:nvPr/>
        </p:nvSpPr>
        <p:spPr>
          <a:xfrm flipH="1">
            <a:off x="2286000" y="3643200"/>
            <a:ext cx="7632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6"/>
          <p:cNvSpPr/>
          <p:nvPr/>
        </p:nvSpPr>
        <p:spPr>
          <a:xfrm flipH="1">
            <a:off x="3000240" y="4071960"/>
            <a:ext cx="460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7"/>
          <p:cNvSpPr/>
          <p:nvPr/>
        </p:nvSpPr>
        <p:spPr>
          <a:xfrm>
            <a:off x="3643200" y="3643200"/>
            <a:ext cx="460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8"/>
          <p:cNvSpPr/>
          <p:nvPr/>
        </p:nvSpPr>
        <p:spPr>
          <a:xfrm flipH="1">
            <a:off x="4932360" y="4143240"/>
            <a:ext cx="85392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9"/>
          <p:cNvSpPr/>
          <p:nvPr/>
        </p:nvSpPr>
        <p:spPr>
          <a:xfrm flipH="1">
            <a:off x="5724360" y="4143240"/>
            <a:ext cx="2764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0"/>
          <p:cNvSpPr/>
          <p:nvPr/>
        </p:nvSpPr>
        <p:spPr>
          <a:xfrm>
            <a:off x="6215040" y="4143240"/>
            <a:ext cx="30168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1"/>
          <p:cNvSpPr/>
          <p:nvPr/>
        </p:nvSpPr>
        <p:spPr>
          <a:xfrm>
            <a:off x="7500960" y="38577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2"/>
          <p:cNvSpPr/>
          <p:nvPr/>
        </p:nvSpPr>
        <p:spPr>
          <a:xfrm>
            <a:off x="8215200" y="3857760"/>
            <a:ext cx="7164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4286160" y="4643280"/>
            <a:ext cx="792360" cy="9144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5143680" y="4714920"/>
            <a:ext cx="996840" cy="1347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д,-ч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змү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н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6215040" y="4643280"/>
            <a:ext cx="844560" cy="776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ә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1928880" y="4286160"/>
            <a:ext cx="671400" cy="70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0"/>
          <p:cNvSpPr/>
          <p:nvPr/>
        </p:nvSpPr>
        <p:spPr>
          <a:xfrm>
            <a:off x="2643120" y="4572000"/>
            <a:ext cx="735120" cy="704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хад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3357720" y="4286160"/>
            <a:ext cx="714240" cy="6429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эгш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7164360" y="4292640"/>
            <a:ext cx="765360" cy="779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н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ан, -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3"/>
          <p:cNvSpPr/>
          <p:nvPr/>
        </p:nvSpPr>
        <p:spPr>
          <a:xfrm>
            <a:off x="8001000" y="4286160"/>
            <a:ext cx="785880" cy="785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м,-мд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чн,-т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 flipV="1">
            <a:off x="4500720" y="50007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5"/>
          <p:cNvSpPr/>
          <p:nvPr/>
        </p:nvSpPr>
        <p:spPr>
          <a:xfrm>
            <a:off x="4643280" y="500076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6"/>
          <p:cNvSpPr/>
          <p:nvPr/>
        </p:nvSpPr>
        <p:spPr>
          <a:xfrm flipV="1">
            <a:off x="5214960" y="5000760"/>
            <a:ext cx="2872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7"/>
          <p:cNvSpPr/>
          <p:nvPr/>
        </p:nvSpPr>
        <p:spPr>
          <a:xfrm>
            <a:off x="5500800" y="500076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8"/>
          <p:cNvSpPr/>
          <p:nvPr/>
        </p:nvSpPr>
        <p:spPr>
          <a:xfrm flipV="1">
            <a:off x="5643720" y="5000760"/>
            <a:ext cx="215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5857920" y="5000760"/>
            <a:ext cx="2174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0"/>
          <p:cNvSpPr/>
          <p:nvPr/>
        </p:nvSpPr>
        <p:spPr>
          <a:xfrm flipV="1">
            <a:off x="5500800" y="52858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5643720" y="52862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 flipV="1">
            <a:off x="4786200" y="5214960"/>
            <a:ext cx="716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3"/>
          <p:cNvSpPr/>
          <p:nvPr/>
        </p:nvSpPr>
        <p:spPr>
          <a:xfrm>
            <a:off x="4857840" y="52149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 flipV="1">
            <a:off x="5643720" y="55008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>
            <a:off x="5786280" y="550080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6"/>
          <p:cNvSpPr/>
          <p:nvPr/>
        </p:nvSpPr>
        <p:spPr>
          <a:xfrm flipV="1">
            <a:off x="5572080" y="578592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7"/>
          <p:cNvSpPr/>
          <p:nvPr/>
        </p:nvSpPr>
        <p:spPr>
          <a:xfrm>
            <a:off x="5715000" y="578628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8"/>
          <p:cNvSpPr/>
          <p:nvPr/>
        </p:nvSpPr>
        <p:spPr>
          <a:xfrm flipV="1">
            <a:off x="6500880" y="49287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9"/>
          <p:cNvSpPr/>
          <p:nvPr/>
        </p:nvSpPr>
        <p:spPr>
          <a:xfrm>
            <a:off x="6643800" y="492912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0"/>
          <p:cNvSpPr/>
          <p:nvPr/>
        </p:nvSpPr>
        <p:spPr>
          <a:xfrm flipV="1">
            <a:off x="6786720" y="514368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1"/>
          <p:cNvSpPr/>
          <p:nvPr/>
        </p:nvSpPr>
        <p:spPr>
          <a:xfrm>
            <a:off x="6929280" y="514368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23"/>
          <p:cNvGrpSpPr/>
          <p:nvPr/>
        </p:nvGrpSpPr>
        <p:grpSpPr>
          <a:xfrm>
            <a:off x="214200" y="214200"/>
            <a:ext cx="8572680" cy="6129000"/>
            <a:chOff x="214200" y="214200"/>
            <a:chExt cx="8572680" cy="6129000"/>
          </a:xfrm>
        </p:grpSpPr>
        <p:sp>
          <p:nvSpPr>
            <p:cNvPr id="197" name="AutoShape 166"/>
            <p:cNvSpPr/>
            <p:nvPr/>
          </p:nvSpPr>
          <p:spPr>
            <a:xfrm>
              <a:off x="214200" y="214200"/>
              <a:ext cx="857268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5"/>
            <p:cNvSpPr/>
            <p:nvPr/>
          </p:nvSpPr>
          <p:spPr>
            <a:xfrm flipH="1">
              <a:off x="1734120" y="713160"/>
              <a:ext cx="2122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64"/>
            <p:cNvSpPr/>
            <p:nvPr/>
          </p:nvSpPr>
          <p:spPr>
            <a:xfrm>
              <a:off x="5142960" y="713160"/>
              <a:ext cx="18838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63"/>
            <p:cNvSpPr/>
            <p:nvPr/>
          </p:nvSpPr>
          <p:spPr>
            <a:xfrm>
              <a:off x="1311480" y="108468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аслг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2"/>
            <p:cNvSpPr/>
            <p:nvPr/>
          </p:nvSpPr>
          <p:spPr>
            <a:xfrm>
              <a:off x="6497280" y="108468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г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61"/>
            <p:cNvSpPr/>
            <p:nvPr/>
          </p:nvSpPr>
          <p:spPr>
            <a:xfrm>
              <a:off x="1734480" y="142740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6920640" y="142740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9"/>
            <p:cNvSpPr/>
            <p:nvPr/>
          </p:nvSpPr>
          <p:spPr>
            <a:xfrm>
              <a:off x="828000" y="1657080"/>
              <a:ext cx="1944000" cy="76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Үүлдвр кегдҗәхинь, кегдҗ одсинь эс гиҗ кегдхинь темдглн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8"/>
            <p:cNvSpPr/>
            <p:nvPr/>
          </p:nvSpPr>
          <p:spPr>
            <a:xfrm>
              <a:off x="5650920" y="1657080"/>
              <a:ext cx="2232720" cy="76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Үүлдәгч заквр, заавр, селвг өгҗәхинь темдгл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7"/>
            <p:cNvSpPr/>
            <p:nvPr/>
          </p:nvSpPr>
          <p:spPr>
            <a:xfrm flipH="1">
              <a:off x="1734480" y="2421000"/>
              <a:ext cx="2808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6"/>
            <p:cNvSpPr/>
            <p:nvPr/>
          </p:nvSpPr>
          <p:spPr>
            <a:xfrm>
              <a:off x="6875640" y="2421000"/>
              <a:ext cx="4464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5"/>
            <p:cNvSpPr/>
            <p:nvPr/>
          </p:nvSpPr>
          <p:spPr>
            <a:xfrm>
              <a:off x="1311480" y="268524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агар хүвр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4"/>
            <p:cNvSpPr/>
            <p:nvPr/>
          </p:nvSpPr>
          <p:spPr>
            <a:xfrm>
              <a:off x="6497280" y="268524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үүрәр хүвр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3"/>
            <p:cNvSpPr/>
            <p:nvPr/>
          </p:nvSpPr>
          <p:spPr>
            <a:xfrm>
              <a:off x="1417680" y="32572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2"/>
            <p:cNvSpPr/>
            <p:nvPr/>
          </p:nvSpPr>
          <p:spPr>
            <a:xfrm>
              <a:off x="1523880" y="3257280"/>
              <a:ext cx="74016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1"/>
            <p:cNvSpPr/>
            <p:nvPr/>
          </p:nvSpPr>
          <p:spPr>
            <a:xfrm>
              <a:off x="1840680" y="3257280"/>
              <a:ext cx="137592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50"/>
            <p:cNvSpPr/>
            <p:nvPr/>
          </p:nvSpPr>
          <p:spPr>
            <a:xfrm>
              <a:off x="7237800" y="32572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9"/>
            <p:cNvSpPr/>
            <p:nvPr/>
          </p:nvSpPr>
          <p:spPr>
            <a:xfrm flipH="1">
              <a:off x="6285960" y="3257280"/>
              <a:ext cx="84636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8"/>
            <p:cNvSpPr/>
            <p:nvPr/>
          </p:nvSpPr>
          <p:spPr>
            <a:xfrm flipH="1">
              <a:off x="5439600" y="3257280"/>
              <a:ext cx="148104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47"/>
            <p:cNvSpPr/>
            <p:nvPr/>
          </p:nvSpPr>
          <p:spPr>
            <a:xfrm>
              <a:off x="67716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өңгрс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6"/>
            <p:cNvSpPr/>
            <p:nvPr/>
          </p:nvSpPr>
          <p:spPr>
            <a:xfrm>
              <a:off x="1734480" y="3600000"/>
              <a:ext cx="84672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өдг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45"/>
            <p:cNvSpPr/>
            <p:nvPr/>
          </p:nvSpPr>
          <p:spPr>
            <a:xfrm>
              <a:off x="279360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р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4"/>
            <p:cNvSpPr/>
            <p:nvPr/>
          </p:nvSpPr>
          <p:spPr>
            <a:xfrm>
              <a:off x="491040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3"/>
            <p:cNvSpPr/>
            <p:nvPr/>
          </p:nvSpPr>
          <p:spPr>
            <a:xfrm>
              <a:off x="596808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42"/>
            <p:cNvSpPr/>
            <p:nvPr/>
          </p:nvSpPr>
          <p:spPr>
            <a:xfrm>
              <a:off x="702684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1"/>
            <p:cNvSpPr/>
            <p:nvPr/>
          </p:nvSpPr>
          <p:spPr>
            <a:xfrm>
              <a:off x="1100160" y="394236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0"/>
            <p:cNvSpPr/>
            <p:nvPr/>
          </p:nvSpPr>
          <p:spPr>
            <a:xfrm>
              <a:off x="21582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9"/>
            <p:cNvSpPr/>
            <p:nvPr/>
          </p:nvSpPr>
          <p:spPr>
            <a:xfrm>
              <a:off x="321696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8"/>
            <p:cNvSpPr/>
            <p:nvPr/>
          </p:nvSpPr>
          <p:spPr>
            <a:xfrm>
              <a:off x="53334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7"/>
            <p:cNvSpPr/>
            <p:nvPr/>
          </p:nvSpPr>
          <p:spPr>
            <a:xfrm>
              <a:off x="639108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6"/>
            <p:cNvSpPr/>
            <p:nvPr/>
          </p:nvSpPr>
          <p:spPr>
            <a:xfrm>
              <a:off x="74502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5"/>
            <p:cNvSpPr/>
            <p:nvPr/>
          </p:nvSpPr>
          <p:spPr>
            <a:xfrm>
              <a:off x="677160" y="4170960"/>
              <a:ext cx="84492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лә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ла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4"/>
            <p:cNvSpPr/>
            <p:nvPr/>
          </p:nvSpPr>
          <p:spPr>
            <a:xfrm>
              <a:off x="1630080" y="4170960"/>
              <a:ext cx="10587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җәнә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на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3"/>
            <p:cNvSpPr/>
            <p:nvPr/>
          </p:nvSpPr>
          <p:spPr>
            <a:xfrm>
              <a:off x="2793600" y="417096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х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х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2"/>
            <p:cNvSpPr/>
            <p:nvPr/>
          </p:nvSpPr>
          <p:spPr>
            <a:xfrm>
              <a:off x="491040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ий, -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са(-сә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с, -су,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,-вид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1"/>
            <p:cNvSpPr/>
            <p:nvPr/>
          </p:nvSpPr>
          <p:spPr>
            <a:xfrm>
              <a:off x="596808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т(-т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ч(-ч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0"/>
            <p:cNvSpPr/>
            <p:nvPr/>
          </p:nvSpPr>
          <p:spPr>
            <a:xfrm>
              <a:off x="702684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т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-тхә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9"/>
            <p:cNvSpPr/>
            <p:nvPr/>
          </p:nvSpPr>
          <p:spPr>
            <a:xfrm>
              <a:off x="533340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8"/>
            <p:cNvSpPr/>
            <p:nvPr/>
          </p:nvSpPr>
          <p:spPr>
            <a:xfrm>
              <a:off x="639108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27"/>
            <p:cNvSpPr/>
            <p:nvPr/>
          </p:nvSpPr>
          <p:spPr>
            <a:xfrm>
              <a:off x="745020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6"/>
            <p:cNvSpPr/>
            <p:nvPr/>
          </p:nvSpPr>
          <p:spPr>
            <a:xfrm>
              <a:off x="4592880" y="5428440"/>
              <a:ext cx="84636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-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йов-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5"/>
            <p:cNvSpPr/>
            <p:nvPr/>
          </p:nvSpPr>
          <p:spPr>
            <a:xfrm>
              <a:off x="5862960" y="5428440"/>
              <a:ext cx="105768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и-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хн-т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хн-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4"/>
            <p:cNvSpPr/>
            <p:nvPr/>
          </p:nvSpPr>
          <p:spPr>
            <a:xfrm>
              <a:off x="7344000" y="5428440"/>
              <a:ext cx="84672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тх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мш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тх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89"/>
          <p:cNvSpPr/>
          <p:nvPr/>
        </p:nvSpPr>
        <p:spPr>
          <a:xfrm>
            <a:off x="3071880" y="3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ҮҮЛДӘГЧИН   ШИН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5"/>
          <p:cNvSpPr txBox="1"/>
          <p:nvPr/>
        </p:nvSpPr>
        <p:spPr>
          <a:xfrm>
            <a:off x="1835280" y="189000"/>
            <a:ext cx="554508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епричастин янз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7120" y="714240"/>
          <a:ext cx="8291520" cy="5786640"/>
        </p:xfrm>
        <a:graphic>
          <a:graphicData uri="http://schemas.openxmlformats.org/drawingml/2006/table">
            <a:tbl>
              <a:tblPr/>
              <a:tblGrid>
                <a:gridCol w="1643040"/>
                <a:gridCol w="1928880"/>
                <a:gridCol w="1427040"/>
                <a:gridCol w="1646280"/>
                <a:gridCol w="164628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з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 медүлнә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врму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му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үлгү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Line 53"/>
          <p:cNvSpPr/>
          <p:nvPr/>
        </p:nvSpPr>
        <p:spPr>
          <a:xfrm>
            <a:off x="357120" y="714240"/>
            <a:ext cx="165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649440" y="15717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лүл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712800" y="23572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ва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783000" y="342900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811440" y="450072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718920" y="5643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оц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2005920" y="1500120"/>
            <a:ext cx="122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әгч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әә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2032560" y="2286000"/>
            <a:ext cx="1653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әгч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әә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2003040" y="3286080"/>
            <a:ext cx="1889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 күц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н цагт болж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 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010240" y="5357880"/>
            <a:ext cx="1838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ин бооц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тгч уч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4074840" y="157176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4075920" y="242892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7"/>
          <p:cNvSpPr/>
          <p:nvPr/>
        </p:nvSpPr>
        <p:spPr>
          <a:xfrm>
            <a:off x="4143960" y="36432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8"/>
          <p:cNvSpPr/>
          <p:nvPr/>
        </p:nvSpPr>
        <p:spPr>
          <a:xfrm>
            <a:off x="4218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4218840" y="55720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ах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5860800" y="1571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 (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5790240" y="2428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(ә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2"/>
          <p:cNvSpPr/>
          <p:nvPr/>
        </p:nvSpPr>
        <p:spPr>
          <a:xfrm>
            <a:off x="5857920" y="364320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3"/>
          <p:cNvSpPr/>
          <p:nvPr/>
        </p:nvSpPr>
        <p:spPr>
          <a:xfrm>
            <a:off x="5931720" y="4572000"/>
            <a:ext cx="3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4"/>
          <p:cNvSpPr/>
          <p:nvPr/>
        </p:nvSpPr>
        <p:spPr>
          <a:xfrm>
            <a:off x="5648760" y="5357880"/>
            <a:ext cx="994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(хл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(вә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8"/>
          <p:cNvSpPr/>
          <p:nvPr/>
        </p:nvSpPr>
        <p:spPr>
          <a:xfrm>
            <a:off x="7077600" y="150012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 цә уу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әәл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078680" y="2286000"/>
            <a:ext cx="1442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лмҗ үкрә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һад ир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7006320" y="3286080"/>
            <a:ext cx="1730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шиг сурт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р белн бо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7074720" y="4429080"/>
            <a:ext cx="14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ла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лн ке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7077240" y="5357880"/>
            <a:ext cx="1631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маг йовх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дн бас йов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2009160" y="435780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лә хам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цҗ йовх үүлд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8:49:52Z</dcterms:created>
  <dc:creator>ucheba</dc:creator>
  <dc:description/>
  <dc:language>en-US</dc:language>
  <cp:lastModifiedBy>215</cp:lastModifiedBy>
  <dcterms:modified xsi:type="dcterms:W3CDTF">2021-03-17T13:36:31Z</dcterms:modified>
  <cp:revision>33</cp:revision>
  <dc:subject/>
  <dc:title>УДЕ</dc:title>
</cp:coreProperties>
</file>